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921-4560-4760-932D-4B7E82CA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291-41A6-4F62-954A-73FD26F4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DA2-D11F-4DE9-A331-29E5C017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055-1DD0-4D6A-BB49-0314A629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E05-7F7C-4166-B376-577CF5E8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453-20FD-4E02-A010-9680F75C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5D7-81F7-44AA-8894-DC885134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0CC-42C6-43D9-9CF9-6D80E481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098-24CA-4FB9-B343-793A835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660-E68F-4A85-A086-048333E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360-72CA-48F5-9F3C-FD37064E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907-35C4-40F7-B28B-0185DE24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D37-6B06-49C8-9AA6-A77388D6F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quistadors and Pre 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: Jack and Ma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location was in Central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apital was Tenochitlan (Built in the middle of a lak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olytheistic (Believed in many go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ook other tribes and used them as slaves and human sacrif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ruler was Montezu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3276720" cy="224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41920" y="624780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sitemaker.umich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location was the Mexican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have as much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slaves who could sometimes gain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4360" y="60951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o.missouristate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3505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ocation was South America, Andes Mts.,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capital was Cuz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polytheistic (belief in many go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acticed animal sacrifice and on special human sacrifice (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323712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2200" y="56379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.fullerton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He was a Conquistador (someone who conquers [takes over by force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Montezuma thought that Cortez was Quetzacoatl (Pale skinned god who was supposed to return to the Aztecs at the same time Cortez di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He took Montezuma ho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He destroyed Tenochitlan and built Mexico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952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93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Conquistador (someone who conquers [takes over by force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quered the Incas when the Incas were fighting a civil war (A war fought between two parts of the same count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rdered the Incas to fill a room with his gold and si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098880" cy="4152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40480" y="57142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How did the Spanish explorers and conquistadors change Central and South America for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2004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day, most of Central and South America speaks Spanish and is Christian.  They no longer worship their nativ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46:23Z</dcterms:created>
  <dc:creator>jklib</dc:creator>
  <dc:description/>
  <dc:language>en-US</dc:language>
  <cp:lastModifiedBy>jklib</cp:lastModifiedBy>
  <dcterms:modified xsi:type="dcterms:W3CDTF">2011-11-29T14:35:10Z</dcterms:modified>
  <cp:revision>8</cp:revision>
  <dc:subject/>
  <dc:title>Slide 1</dc:title>
</cp:coreProperties>
</file>